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E438F-9077-4DDD-966A-B2F219643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52983-7788-40F4-8503-3DBE1B0C8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2CF14-CF9C-4FD8-9F4C-0B1BEDDE5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D98BD-151C-4D9A-A28D-F51F1BFF3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75EFE-6F46-43D9-9D0D-C9EEEA7F2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1B17C-EA87-496D-96B0-E845EBCA1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AA3F9-8B9D-42AB-9601-D13DEBF9D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BB3B1-4199-4B5E-9C05-D8649312A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97E22-0148-445F-BA25-A779D7C88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2D9BB-2C63-4E6A-8709-65DD42841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441D8-C917-482B-AABB-6AD57F602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4F6D7-3F81-498C-8A73-8A929E82F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4DD5D-7204-41D3-97CF-CE42A7503A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8T21:00:46Z</dcterms:created>
  <dc:creator>PorterfP</dc:creator>
  <dc:description/>
  <dc:language>en-US</dc:language>
  <cp:lastModifiedBy>PorterfP</cp:lastModifiedBy>
  <dcterms:modified xsi:type="dcterms:W3CDTF">2008-07-29T14:30:49Z</dcterms:modified>
  <cp:revision>2</cp:revision>
  <dc:subject/>
  <dc:title>Slide 1</dc:title>
</cp:coreProperties>
</file>